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22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3996-D93F-46EA-A8AC-B64D87D046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1755-4D86-44B6-8E82-EE44C9474E77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1053-AEFD-46BF-9C19-E9A7AE9B35C8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912FD-5C38-4E3A-9C26-8F3831F79C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8B9A6-5CF2-4055-956D-ECF4F240E1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102EC-92A0-40C3-B150-B8D2810B2F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474D8-EE67-4CA2-B5BE-5D7D828FE7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88712F-BC1C-4E33-9947-C6481EEDC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F7862-C291-4306-AAA7-198F014A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F8760-5450-41CA-85D2-47C6EA2C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7D9C0-038A-46AC-A034-798CA0C7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45C39-51D5-49A6-A3B3-418558D5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4BEF2-A60A-4B3D-91BA-5364ADE1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D7F7F-F6D1-4087-8F0F-CEEFCCA5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54899-7E4C-4608-B1B6-4CF83C7155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385FC-117B-43F5-82AF-C0D9F640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7FAEA-89D5-410E-AAFC-AFA24903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371C4-A955-4829-997D-12F8B614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2A78A-7D3D-4172-8B93-741E834F6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91876-A408-43BC-872C-34CB3FF27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B31F73-F272-41F8-B610-EF2ECD6EE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2BB6BE-2383-452C-A7FB-89B23296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4E7DDB-0211-4DB5-A7B4-27245C7F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58F46B-4AC3-421B-BBA3-C9AA83F3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AAA6CB-4D98-489D-A682-FB7ACE9B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5C14C-7A2B-4F4F-9634-D901EBC280A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CFDF90-0587-4F7C-8CE5-810602BD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C02396-1DDD-4AC6-89D2-FB53F58E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C7D132-EEF0-48B4-942F-2DFBE87E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7B04B2-8366-47CD-9266-768ED0B5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EDC005-1559-4CAE-B8DF-400D95B2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D67D55-C211-4E62-8327-FECD75A35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3CED1D-9B49-46C2-8B04-1DAE911F5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CABE17-C5D0-42ED-BC82-E3E5D182242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C242CB-7F9D-4169-AD71-17505C4E78A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817ABD-B6DB-4187-A067-15F0C9444F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75ED1-4D2B-4EBF-9B35-08A1D1B5A6A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0E1057-744B-4C8D-895A-47C3BDDFBC4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F4B532-0AC4-4226-97DD-E081AFBA1C0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EDAEEA-429D-455D-91DE-CAC4399AADE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FD758C-236D-4B6E-9E42-D5DFBF6E6A5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8146B3-F5FF-4C38-B32C-DC7C68B3129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00ED51-5043-4CE9-B545-9DA40A28C1F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01FE36-2DF5-45FE-A54A-5E8FC0D812B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59B60F-3294-4A2C-AC23-81B29B7E735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4497A8-29DD-4B4E-A821-DC2895F77F2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5A3F8-27DA-4E77-A8E0-0919B931BB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600D4-5077-4CB5-B1C1-F55E6D6A28F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6C51E-714C-4E76-8C35-3CF7AE395A1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E1E8E-0DC4-423A-B10F-D5739A3B65C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4BB17-C478-48C4-AD19-9A7C2C36EDF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32B2E-0768-4C65-99FD-2CBFD7020A3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C9F5C-D5F9-461D-A343-B31BA0B548E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E1C70-5D36-41DE-8439-93DAB4B62D5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E05AA-B708-4D72-BF63-849A4B56A8F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37AF8-A25B-4257-82B3-BEA5F845DB4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247F0-948A-463B-A478-8B58275C2DA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4BE91-4F6E-4CAD-97A2-1DBEB97B1F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686AF-222D-4420-B90C-5179EFC6E94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BA1E4-1833-4C42-A96E-42C5B32201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C1954-B939-4764-B676-9D678FB147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F26B4-20AC-47CB-80CA-304E6EFC62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9A9AD-492E-4DA5-99FB-D1E1DD400A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789AA83-0E24-479E-836F-0BCFCE5D7CDD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5345E42-3ADB-482C-ABED-0ECC90049B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9540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391D-7236-44C3-93AE-58178F35BE99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9EBC-077D-4FF8-831D-5F2C59628FB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556000" y="45072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9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0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D70D6C4-C434-4FBE-8786-D9C65A1DD13D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0DB16D6-D965-400B-A034-37F14084AA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81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2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3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4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5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6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7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8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9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0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1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2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3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4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5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196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95400"/>
            <a:ext cx="5581800" cy="666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3" descr="cid:image004.png@01D7B519.9E61D320"/>
          <p:cNvPicPr/>
          <p:nvPr/>
        </p:nvPicPr>
        <p:blipFill>
          <a:blip r:embed="rId3"/>
          <a:stretch/>
        </p:blipFill>
        <p:spPr>
          <a:xfrm>
            <a:off x="3228840" y="200160"/>
            <a:ext cx="5581800" cy="6667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ftr" idx="1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sldNum" idx="1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AB4368EE-510F-48B8-AC11-E355ACD14CBA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33DCA187-A1BB-4B3F-8AE9-E0D769067E18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8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109440" y="4565520"/>
            <a:ext cx="903924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If group variances differ but normal distributions in group use Welch’s df adjustm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https://statisticsbyjim.com/anova/welchs-anova-compared-to-classic-one-way-anova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See also Delacre, M., Lakens, D., &amp; Leys, C. (2017)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Why Psychologists Should by Default Use Welch’s t-test Instead of Student’s t-test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70c0"/>
                </a:solidFill>
                <a:latin typeface="Verdana"/>
              </a:rPr>
              <a:t>International Review of Social Psychology</a:t>
            </a: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, 30(1), 92–101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1" name="Picture 8" descr=""/>
          <p:cNvPicPr/>
          <p:nvPr/>
        </p:nvPicPr>
        <p:blipFill>
          <a:blip r:embed="rId1"/>
          <a:stretch/>
        </p:blipFill>
        <p:spPr>
          <a:xfrm>
            <a:off x="507960" y="1995480"/>
            <a:ext cx="8604360" cy="2548080"/>
          </a:xfrm>
          <a:prstGeom prst="rect">
            <a:avLst/>
          </a:prstGeom>
          <a:ln w="0">
            <a:noFill/>
          </a:ln>
        </p:spPr>
      </p:pic>
      <p:sp>
        <p:nvSpPr>
          <p:cNvPr id="292" name="Oval 9"/>
          <p:cNvSpPr/>
          <p:nvPr/>
        </p:nvSpPr>
        <p:spPr>
          <a:xfrm>
            <a:off x="7521480" y="245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3" name="Line 10"/>
          <p:cNvSpPr/>
          <p:nvPr/>
        </p:nvSpPr>
        <p:spPr>
          <a:xfrm flipV="1">
            <a:off x="6800760" y="3217680"/>
            <a:ext cx="144144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6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3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304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8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316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3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1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28.89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12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3.95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9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4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6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2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4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5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6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7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8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9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0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1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2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75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388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9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394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5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413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16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417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20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421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2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3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4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5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6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436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39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440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4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5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46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447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8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51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4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5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6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7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9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weighted=arith mean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89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2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3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4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5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6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01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4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275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5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21-10-26T08:08:44Z</dcterms:modified>
  <cp:revision>373</cp:revision>
  <dc:subject/>
  <dc:title>No Slide Title</dc:title>
</cp:coreProperties>
</file>